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5CD-02B4-45E4-801D-79BD3DD7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20F-AA33-436E-AA61-10C062F6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D1027-2718-4E65-9483-E1E597A6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D4998-A61C-452D-BF34-ACDF09BA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BF6E0-DE82-41A3-8AD9-EA66EB1C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DC052-FBAC-4153-89C6-D058E637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021EE-281B-4032-8E85-93ABB406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1DE47-BFA8-4A2F-AFCA-BBEBCE66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306F8-7FBC-47F0-8B1C-222B765B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12194-597B-4F64-B68E-67674ECA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D79CC-979C-4D13-88E8-3B60AA23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F24C6-285B-4A13-B40D-03A3CCDA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E1F-2213-4BDA-B785-E8C8B93A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52E6D-986B-419D-9680-C9F7CB9E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C1BD2-89E4-48A0-BE34-6746FE5A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057E4-A0F8-4945-AC09-52BA5427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526E0-D90F-4B18-B10A-67F632A7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6D06A-3ED8-4ABF-9F28-46485038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7CAF4-C8A9-4213-9D9B-F64E0528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1EDDE-259B-4033-B28D-C39AA492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56ECE-9B54-42DA-BDA8-98A03895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7F9FB-6EC3-4428-A764-226AF79A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E092C-78B0-40A7-AB88-A06A94DD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6C9-15A8-4429-9DFF-929698EC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7A0E1-61E7-40C3-AEB6-AB7F6C5C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7EF06-7B64-4CB6-B810-F598FBFA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59BEE-168C-4BBB-8FE7-2A4CEAF0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5B543-954D-48CB-94A3-A2B7FD87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FBF51-45A3-4769-9C98-9853B2E5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1F074-316A-4015-B1EA-5C066099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82D47-D6E2-4566-AA09-5AC02C70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EFF95-41BD-4ED8-A9A9-75B032A8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4FE02-C14C-4B93-A76C-B83EEA51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1CADC-42A7-46A3-99A0-B32E4DA7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56B1-CE70-4FAA-91E8-B63B3322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63C81-0570-4515-89D8-FD958238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A4D9D-3511-4385-B1F2-8054D7A0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A7975-44E8-4585-94F5-8CD4096C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347AB-5CA1-4648-B933-D2D7006B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88125-4A6A-44E3-8318-C13F9FDC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60125-D60B-4157-952D-794C2B57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4CAB8-D39E-4B52-9038-D996BA3F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59C0A-D1E1-4081-A40A-0F392C97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19387-0F8D-4FE2-A26B-4409C5E6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66B90-830F-4D55-AC45-C3CB0596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56D5-B089-4A1C-99E7-9920C162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DFAFC-BDF3-452C-9C7C-84222D83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1956E-20AF-4F2F-8621-A3A9579B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76AC2-4AB2-497F-A025-64EA2B54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64459-0A21-4589-8C4A-16C6A19D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326C3-A894-481D-9D6B-63972E45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8FEC-A397-4E41-B250-9C121879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7AEF-FA3F-437F-8371-67D37410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1C06-12D3-406B-B114-05E4DFDB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2D95-80C4-494E-B2D9-979EA970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5EF4-A95D-44D9-A62E-807E42ED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93D-91AB-4DB2-8523-21B7560D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6878-155F-4767-9CA6-2938878F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4AD3-AE32-48F0-BA5D-5B45033B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C190-F92A-4F8A-BE45-9E93DF8C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4068-3CDB-4656-A5D0-2A6919A6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29DC-7EE8-4689-9B76-08E9913A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461E4-DE2B-43FD-AC53-7F64EC2A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D2CED-F2CC-47D4-9ADA-0F0D85A8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DEC5A-58D2-4841-B2A5-513010EB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7EDFF-CBD0-43EB-A469-711BB34A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38F26-69EF-4132-84A0-E9E5FA97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0498-7F2D-4B15-A37C-14C0D4EC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50382-FA58-42E3-925B-8678AABB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3E5F1-B34E-424C-8124-017B4C59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CA16-5439-4DDB-9B8B-C4B935AD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85228-218E-4488-9460-E6784395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EDDEA-19AF-4329-BC43-357968F8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0F083-163A-4658-ABB5-C22D1B3A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18BCF-DDD7-4C69-85C8-A6A9F9E1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789A3-BDE0-415D-820C-87271878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F04EC-D81A-4087-B671-4D107381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A3954-E485-4125-84B7-B6E2579D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6D3-C001-49A8-8B03-A9C2B376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9D09B-E81D-4C9A-BC8B-29F6043D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55AD8-E078-4F9D-B212-C54BECC3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C699B-A050-48D1-828D-26B3E9AB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52BBD-8A9F-4B33-9CAB-7B28250D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5AB67-B6F0-444A-8279-0FAFBCD6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1D00F-5DAA-40DF-BAA2-A4BB888A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6227F-6A08-4649-B264-8826593C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5AE5F-52C7-44E3-AD38-F91FD5EE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E638F-3B21-45C6-BFA4-B1514AE6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6C94E-F3F3-4814-9205-5D07D0A5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01B-DCFF-4262-B88F-C49D3C26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9737B-9F2D-4853-83B6-11DCBABC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F87CE-A0BC-49C3-97AD-7DEA064B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6EE6E-D4B4-4FBB-8EBF-06A0A2BF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E1383-0DAB-4F8F-A069-35D23401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9539D-22DB-4E78-BE0F-5845B3DA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AD4A2-75BB-4E72-88CE-3CBCD759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310DA-2DC6-4FD7-BAE9-A8048AED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88C14-E2DA-4B05-B781-06C97FF1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2ABC1-F60D-4E82-9C2C-D70BE004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E2769-E947-4475-B1F0-9B5F1C3C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C24-4F57-4A64-8A9F-4874B0EA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29E53-5636-492E-8FDD-9B8166D2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C4527-32C5-4906-9708-9D4FB04A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55655-0323-4EEF-A36F-909BFD5A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32EB1-7C51-470C-BD18-EE48F52B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986A2-3EAB-4710-A4A8-748D0E84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7B031-5C4D-4077-A8BB-F22A0CC4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4CE92-AC1C-4926-B6E1-EE3BBC32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1B195-D6B3-4F79-B93C-A029D26D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F5A86-616A-468C-9F03-6FA258A4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F9DDD-233E-40C0-934A-11D6AD66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B5E-A6EF-4BDA-B650-5C738A89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55D2A-81A8-46B6-A6D1-CBEC667B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F7AD8-BBF7-4D60-9EA9-0E80FAA1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74DEB-7382-49AE-A625-F2FFA7A9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AD744-3C51-4CAF-A62C-25CC7557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112FA-4080-4213-903B-88941978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FCC83-4647-45F4-AE25-A70C19D7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7D0E0-8389-41FD-A37C-A3FF63E7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F6023-D515-469B-81EB-DC7C7686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8C4F1-5BCD-4AC8-970B-17D576BA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75BD7-A2A7-4DC2-8C75-7429653D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8C8-E58A-43DD-9968-96C157E2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B0154-5287-4C61-9DB2-5C83B1B4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1170A-521B-4426-A97D-9A022085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47B75-CC71-4103-AFD6-2790C76D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41DA0-82F6-4467-ADD8-50FD2D28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17DF8-CA4A-408D-9C05-2C8728B7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471A9-8735-4E24-A0B8-56898E35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0E1F4-6341-4746-A732-3F7A2AD6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58A76-D52A-4695-9B24-A10890EC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D6009-E2DF-4C16-9282-3AE755A8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0005D-3942-4ECB-9868-02A875D7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DCE-5809-4437-8375-C58370CA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9F4F1-6DAD-43B9-9205-52B42808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BCDAB-228C-4737-922A-4F164837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C560F-BD3F-4693-8B2A-846ACE3D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185EC-2213-4D99-8B12-5C6A6FDF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75C10-202B-4238-B7CC-A1CE21E1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AEBB7-74A9-400E-B882-3A97CE81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7F076-C2B8-41E0-8E01-2A3B6FD0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EA4FA-EA42-4117-B7A1-47C58318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C19D1-2F34-4CB0-97D3-5876F0F6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5D9F2-6F15-4BA6-B536-954ADE8B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EC1D-AC7E-4494-B7E3-554FF30265D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7C57-451E-4EBF-B8B9-86F8A329B49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57D1-7A85-4520-9AD5-686E4C66989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BBD8-1F59-4BBF-BF8F-ACA08A80680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8F5F-5204-4551-B019-2C8A485E292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7D7E-401B-4AAB-95DF-DE340BEE634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525E-C413-48B0-86E0-1D90D92AB16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E042-AF0F-42FF-9311-34ADE7B1C6B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ED58-3E61-4C88-B243-F61632A7C10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7445-1976-4F06-9312-FC208F1416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3C03-01B4-4939-B5F0-DD98ABCB69D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4B28-469C-4DF2-B873-03CF6D6AC55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72 Už slávneho dňa jasn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slávneho dňa jasn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v diaľke zora skv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blízko chvíľa šťast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predo dvermi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biely oblak z diaľav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viera vidieť sm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príchod Kráľa kráľov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Haleluja! z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s priatelia sa stretn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padnú okov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dá nám radosť večn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šetko obnov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mrti vládu zme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večnej slávy j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uzrú vykúpe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 nehynúcich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s modlitbou a vier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pred v láske kráčaj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 horlivosťou vrel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blížnych pracuj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vzoprime sa zlém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snahu posvä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budeme môcť jem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ísť šťastní v ústrety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DUMAS Ing. Dušan Bielik</cp:lastModifiedBy>
  <dcterms:modified xsi:type="dcterms:W3CDTF">2025-01-06T18:31:25Z</dcterms:modified>
  <cp:revision>4</cp:revision>
  <dc:subject/>
  <dc:title>Bez nadpisu</dc:title>
</cp:coreProperties>
</file>